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19D4-DE73-4B77-B8AB-D3DE39FE097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1D34-680C-49F2-A141-38A555BC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072F-C833-4C64-B9E2-89126EA60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17C-F755-4678-9D70-076EA4E0E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0DD9-5553-4C89-95D9-2B589F501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E426-997C-4A22-AB88-AE4123D84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DB67-3511-4DF3-8C11-C6D2221E2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933D-BBBD-4606-9C3B-030C8C20E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5112-AD39-4CC6-9CDB-E386A8327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F5FA-5414-4F86-9058-76FDA0F26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B2CF-E5A3-4E06-911C-BD8D5B6C8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9BF6-BC1F-458E-B00A-1B806A99D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98B8-A264-461E-A71B-A4C7B862C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DDE6-6136-466D-B83E-6032EF6B0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2650-F065-471F-B722-576080012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D486-B8E1-4B64-9969-DAE095266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7DF5-191E-4A61-9D90-E4431DD54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6045-FF92-4B2F-9D94-2D15DCB39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571F-BD74-4A35-A6C6-41A8D02AF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C81D-E972-4770-8D72-3BBBF18DC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2A3B-C626-4011-82F7-455E3B146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91DD-55F1-4F3D-A557-F70583736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FBE5-B70E-4A75-A76C-C022B3AF3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3584-D277-447B-88CE-B94B64780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ADD1-254D-45F2-BE09-5D441A7C7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6FB2-4798-4068-AAA8-655A24196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0CD3-EB0F-4953-A8A8-696133AFF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872E-F3D5-47E2-82B9-20777AC3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4049-5CF2-4C7B-82F7-EA00391EB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C9DA-A763-4CCC-BFA0-233DEEC8B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BD09-602D-4200-984D-25DDA9430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5038-F0E0-468D-88C4-402A5A0B0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38FC-9192-4B5A-A78D-D94CC4CD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0D36-88AC-4E45-8FA1-64403343F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9D3E-0695-47F1-B6F0-515BD41D9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D559-27C9-4653-9AB6-DB0941684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2631-0784-47AC-ACBB-6E02208CF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DC5E-DDCE-423A-A65A-7AE419FBD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BB981-DC8C-4F5C-94E1-B9F78E72B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46C0-0326-443C-AC94-8B540131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02BDD-037F-4B4B-A1D0-1150BF1A31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05837E-AE90-401C-9828-9D3194539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AE319-DCBC-441B-9819-303240A27B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AB9A5-1355-4263-AC4C-0E17FD141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9AF9A-0878-4142-AFA2-63FEE378D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DA874-D9D6-40F7-84BC-A2FC35BD7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C4E3F-530C-43ED-8E25-3E13C04C79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F90E2C-3B52-4377-84F4-909A1A4752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5C204E-F1A6-4E52-B2AA-46BFBA6FFC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AE424C-2AB7-44EA-A7BE-6BC59FEFB2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E3CA0-229C-471E-8AA2-3F0669CF2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FA4444-B69C-4126-B8B4-0BBCD2B95C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052937-EDBF-408F-89AF-ECDF74E042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3EC3B7-F133-4190-ADDB-64AA8C46B6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5A1FE5-A009-429C-9632-FEFDBB59AC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25B32B-5EB3-4F59-880F-0D7A6EC731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E9A3E5-4D5B-457B-9076-B82BB6AB5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3DA94C-CF39-495D-84AF-3DC48460E0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558E1-6CE3-4E95-8D40-AF9B8EFEFB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3D0D1D-D387-4ADC-947D-F5B1215474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3CDBC5-7E1A-4369-A7F9-F91E1AC9CE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EFA9F-85F6-4C19-81F8-F9290B609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F717A3-9B1F-44BF-AD1F-50EF8BD438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75EA26-DD5C-40AB-B0E3-6789A7DA30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BFE1F3-7BAB-422C-AF95-582953D27C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0954FA-DD71-4B5A-AF95-65480F78DA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6E88DC-99CF-4D6E-9DB9-C5F312B241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49136B-EE93-4694-8125-146608BE0D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C8299-9C18-497E-847D-3CFE5D82D0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2A6471-35D9-4E57-B933-6D17DCA247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42B666-AE74-43E0-9C96-9B36E6BA17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25645-7871-4D9E-B706-04DA43ED8B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24AF1-7400-4953-B1DA-53AABD023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60A572-8F8B-4739-A4CE-D8651A3C9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2CFB3A-C21D-4144-A886-9AE0CC4C41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926142-B13F-4E02-9614-E443485134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7362A2-3513-4632-ACF3-9D997AFB26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847D8B-1CE5-4842-B445-15FE7A2952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5F3CA7-0822-4667-8E83-ECDBDE7663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4C351C-9A7F-47D7-8897-E325B67436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7159B4-E198-49B0-97C7-68F5EBC85A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226AC7-0C8C-4CC3-9034-5D74DCEE1C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0B772-6F91-41EA-9650-BC8339E13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2D672-484C-4BCE-9555-13D5961D5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3599CC-F258-48E0-9B6D-F366D979C1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19A5B9-C033-4C73-954D-C5337D6FEF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AC628C-C229-4898-AAC1-BF412D9A36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3DB8E0-4D26-4523-B4AD-98636F4014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2A4498-E18A-470E-89C9-57252B4D7F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97A02A6-E4B7-433F-87BC-421B4F9EF78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4172257-48E4-4AF6-AD89-D8D8C9F579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63FF38D-5D5F-43E8-9E08-D410B084D0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CDCD38D-2426-4A86-9F34-B0BC3DC340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984FF7D-F224-4383-AC44-5D15B95CD8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5002-7A3B-4016-AC8C-13128E967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7C9456C-586E-42EF-A859-980DBEC86E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A5B3A27-1B2F-43ED-9385-5CACDC8121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EAB784F-35D6-44E5-8E04-68C140BBA9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F616238-F4EE-454D-B36C-B7DF43686A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0D18CDF-6819-44F4-9129-6EBC22D210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2AE1DA8-9C7D-400D-BDAC-085BEECC17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86F75A5-647B-42F8-96ED-F17AFAFD250E}"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F13F2-711C-416C-B27D-8B6CA1E67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B5D0F-27BD-4DE5-AEA4-57B6599E2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8BBF4-1474-42CC-875B-DE382B17F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4EB8A-CE3B-4753-88AF-04DB1F14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257D-81DE-4022-9839-2F7F48A4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DADCF-BD19-4FD7-9B66-D9F532B2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6F7CD-DA66-4F76-B70B-81A63A9C9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F2C8A-C2F1-49A3-B80F-551C78911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1D57A-B6D8-4245-B3B3-464DBA146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BF716-EACD-4985-8C02-1EB38EE04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9CC9E-7EE1-4305-83F3-769416F5A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04E93-58F9-4BEA-B2B8-CF4126789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B62DA-6E08-4719-9802-9B2684E77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9C253-A4C3-4EB5-9564-69B704ED0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2EA45-F6AD-4A85-827D-4D5A1D8F8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7DB6-D41E-4082-9538-01B44FD6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91DD2-2DCC-4C07-89C4-A429811B6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2330F-06D7-4FBE-BEA1-4BC4A5085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7BA5D-4B10-4534-8280-5C961EA59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72710-E9D2-43A1-B3ED-48CEFAF38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E29BA-C1CF-4E10-B4A2-3DE302053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0F120-62A8-495D-9FC6-6025F6E9C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AD2E0-C7F9-470A-A0E9-46D1178506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337DC-4D04-4B2B-BEEC-3C538D68B5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0616F-F4D6-4BFD-B682-7A484162B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11C79-38D2-4672-A998-164000EF5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5A948-F248-44AE-BF7E-92D1F645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5086A-2FA4-4306-AE1D-7590963CC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56D6F-37E2-4B75-9508-509C3A662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449C8-8CAA-4A9C-B13C-46A397676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1A2F2-3B3C-49A3-84C7-FF7202D24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B499F-B5FF-4C36-A3A7-84DBE834B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EF9F7-0EDD-4439-A421-31E30A00B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F4EDC-DB94-4610-9682-E2CBC9767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A74B19-25B1-451E-BF5D-9900D9232E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5AEE4-F5DB-4B12-BDD1-E4E159EC5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4A6769-D36E-405D-B10B-70BF27154A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6D091-C88A-4E02-A2DD-C9B4FC11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0FDB9-7085-4DEB-B06B-9408B2BB5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E6C18-8050-4AB8-B7E1-8F2221DCA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B750B-3142-4263-8464-22D079B90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56FFD-4812-4F84-B887-170CF17FB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14243-30D9-49AD-9757-72D20ADAB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D61CB-E031-4BF2-8F0C-6A14781D2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0E087-DAE5-4C92-8B15-0C4DBC248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F4D74-2C5D-470D-A919-A82864037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3B5E7-A846-4ECD-A80F-F952DA9F1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F06D2F-2E8C-49B1-B85E-CC8D1F94EF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8D28-EC0D-4522-96BF-B92121DC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AD86B-B095-4039-9251-BE5FD79B77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8D29B0-3043-439D-9443-453A3D7E08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6130D-617F-4577-B650-D0C9760CB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886C8F-0D59-43D2-BD13-58BECC156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D1704-509E-4364-813F-B89706AC2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29C22C-D08D-49C3-885E-66C22E235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EC966-9E5A-4587-8F00-F7E6DAEF2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78A0F-6F96-4C25-BD02-E3CEDEB00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49CC0-4D93-4E66-BAFA-3A3F93DA6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A1E764-3182-4BE3-A4BC-2C279717E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750F-82D8-44DF-A90C-AB569049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2CD78-AB40-4B32-ABA9-F813647AA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F40B2E-C85E-4700-871B-4DAC30282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5C63DF-C640-4345-81A9-C5CCF36D4D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E30247-D4C7-4DE5-B463-F9D12B450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A1A6C-80DF-42CB-877F-5705E1A5FC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7FB57-0E4F-46B3-8AF0-A19E883939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FD644-2B4E-4655-B2CE-BB4830F45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8DDCC-CD5F-4EA6-A91A-F953FA913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98B53-6946-4EFC-BAD6-CD938B026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F9839-A5F1-4C29-B4B1-D7F770F8E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18B9-5EBF-4D9B-9039-76288EAE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37B6A-DE3F-496B-8CA2-DBB5DF7D9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A3F7B-1CDA-48CA-BCA8-932FEB7D0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B9D61-1E18-4510-9D88-62262410C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2E8F7-B391-4BA6-9A67-518A52D1DE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7EC918-755B-46EA-AE66-E61CA9056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8E8936-5082-4B8D-9C37-4588A75457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995B0E-02DE-49DC-A195-ADA10607EF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496754-51D6-4EBE-9614-C51551F965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79F956-F0D0-4D95-A4FB-4D2E8E673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D0485-085E-42CF-90E2-5D0A4063BA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D79B-3C21-43CC-9885-779EAB3F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39758-E9D9-49A4-B70C-FD716FBBB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15C2E-9CAA-44D1-988F-6F0685504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75E72-7BCD-4C7C-99F5-3752D85F8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3752C-3E63-47ED-8A2E-7CF31B952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EB7D0-725D-4C42-8962-3816B7C42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85BE8-CF5E-4E82-B283-9B9A5E6B7C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0D38FC-85C7-4043-817D-49DEE2F3D8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0523A4-2C11-419F-ABD7-484495A883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4DB7A5-9EEA-49D1-BF96-BD7A39EB3C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483F5E-051C-4995-9BAA-FA10A52256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AB68-9020-4CD1-9646-24FA22ED53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3591-1E60-4EAA-81BC-DE9D0401E3D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8F84-91C2-4DF9-9BEF-E2FCAF9AB0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B477-13E9-4B20-94BD-47C46FDFD6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BFBA-E624-411C-9E17-AB8C64E2B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DF2B-7E0D-47F2-B794-B57E41BA171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547E-13DA-4139-9AEC-9DAF88E076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0122-D7DD-4B3C-88A9-11D4AE8FD1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B969-25C7-4AD4-B01E-762E4A00F40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2556-FA41-4325-A1DC-75DEF01D929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87B0-8F26-4ED0-930F-28E2C08336B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CF1-C861-4F1B-9A97-A4812447414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0986-D5A3-4160-970D-9383A9E0A4F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611280" y="1407600"/>
            <a:ext cx="820872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193400"/>
            <a:ext cx="82087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611280" y="1469520"/>
            <a:ext cx="8208720" cy="42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1280" y="1839600"/>
            <a:ext cx="8208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611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r>
              <a:rPr b="1" lang="el-GR" sz="2000" spc="-1" strike="noStrike">
                <a:solidFill>
                  <a:srgbClr val="000099"/>
                </a:solidFill>
                <a:latin typeface="Arial"/>
                <a:ea typeface="Arial"/>
              </a:rPr>
              <a:t>Σχολικός Σύμβουλος</a:t>
            </a:r>
            <a:br>
              <a:rPr sz="2000"/>
            </a:br>
            <a:endParaRPr b="0" lang="en-US" sz="20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81" name="Picture 9" descr=""/>
          <p:cNvPicPr/>
          <p:nvPr/>
        </p:nvPicPr>
        <p:blipFill>
          <a:blip r:embed="rId1"/>
          <a:stretch/>
        </p:blipFill>
        <p:spPr>
          <a:xfrm>
            <a:off x="0" y="0"/>
            <a:ext cx="9144000" cy="1368360"/>
          </a:xfrm>
          <a:prstGeom prst="rect">
            <a:avLst/>
          </a:prstGeom>
          <a:ln w="0">
            <a:noFill/>
          </a:ln>
        </p:spPr>
      </p:pic>
      <p:pic>
        <p:nvPicPr>
          <p:cNvPr id="882" name="Picture 10" descr=""/>
          <p:cNvPicPr/>
          <p:nvPr/>
        </p:nvPicPr>
        <p:blipFill>
          <a:blip r:embed="rId2"/>
          <a:stretch/>
        </p:blipFill>
        <p:spPr>
          <a:xfrm>
            <a:off x="1258920" y="2060640"/>
            <a:ext cx="1297080" cy="1528560"/>
          </a:xfrm>
          <a:prstGeom prst="rect">
            <a:avLst/>
          </a:prstGeom>
          <a:ln w="0">
            <a:noFill/>
          </a:ln>
        </p:spPr>
      </p:pic>
      <p:pic>
        <p:nvPicPr>
          <p:cNvPr id="883" name="12 - Εικόνα" descr=""/>
          <p:cNvPicPr/>
          <p:nvPr/>
        </p:nvPicPr>
        <p:blipFill>
          <a:blip r:embed="rId3"/>
          <a:stretch/>
        </p:blipFill>
        <p:spPr>
          <a:xfrm>
            <a:off x="6948360" y="1989000"/>
            <a:ext cx="1444680" cy="1573200"/>
          </a:xfrm>
          <a:prstGeom prst="rect">
            <a:avLst/>
          </a:prstGeom>
          <a:ln w="0">
            <a:noFill/>
          </a:ln>
        </p:spPr>
      </p:pic>
      <p:sp>
        <p:nvSpPr>
          <p:cNvPr id="884"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885"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
        <p:nvSpPr>
          <p:cNvPr id="582"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394920" y="977400"/>
            <a:ext cx="8497800" cy="526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250560" y="1407600"/>
            <a:ext cx="856908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611280" y="2053800"/>
            <a:ext cx="8208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19T17:42:32Z</dcterms:modified>
  <cp:revision>152</cp:revision>
  <dc:subject/>
  <dc:title>Παρουσίαση του PowerPoint</dc:title>
</cp:coreProperties>
</file>